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746875" cy="99139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0"/>
            <a:ext cx="6746400" cy="9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2428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1"/>
          </p:nvPr>
        </p:nvSpPr>
        <p:spPr>
          <a:xfrm>
            <a:off x="3822840" y="0"/>
            <a:ext cx="29239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sldImg"/>
          </p:nvPr>
        </p:nvSpPr>
        <p:spPr>
          <a:xfrm>
            <a:off x="895320" y="742680"/>
            <a:ext cx="4957920" cy="3717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body"/>
          </p:nvPr>
        </p:nvSpPr>
        <p:spPr>
          <a:xfrm>
            <a:off x="899640" y="4708440"/>
            <a:ext cx="494676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ftr" idx="2"/>
          </p:nvPr>
        </p:nvSpPr>
        <p:spPr>
          <a:xfrm>
            <a:off x="-360" y="9418680"/>
            <a:ext cx="292428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 type="sldNum" idx="3"/>
          </p:nvPr>
        </p:nvSpPr>
        <p:spPr>
          <a:xfrm>
            <a:off x="3822840" y="9418680"/>
            <a:ext cx="29239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EDDC2-C7E8-4B04-ACA2-4DD023238939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895320" y="743040"/>
            <a:ext cx="4957920" cy="371772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899640" y="4708440"/>
            <a:ext cx="494676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Hinter der Funktion INILesen verbrigt sich der Kernelaufru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Public Declare Function GetPrivateProfileString Lib "kernel32" Alias "GetPrivateProfileStringA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895320" y="743040"/>
            <a:ext cx="4957920" cy="371772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899640" y="4708440"/>
            <a:ext cx="494676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Hinweis auf Essbase 6.2: Layout kann in einer Zeile umgestellt werd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3822840" y="9418680"/>
            <a:ext cx="29239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DE724-A56F-428A-A5E1-4A3D973A437E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-360" y="9418680"/>
            <a:ext cx="292428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-360" y="0"/>
            <a:ext cx="292428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822840" y="0"/>
            <a:ext cx="29239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063800" y="87012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899640" y="4709880"/>
            <a:ext cx="4946760" cy="43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2" marL="914400" indent="0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die Kerngeschäftsprozesse unterstütz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Flexibilität für top-down-/bottom-up-Vorgehensweisen und Planungsgrößen/Indexraum-Erweiterung biete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Medienbrüche für den Anwender vermeide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die Datenintegrität sicher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Historisierung und Archivierung unterstütz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Konfigurationsmanagement für Simulationsmodelle ermöglich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Teamwork unterstütz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integrierte Anwendungskomponenten bereitstell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an das T-Mobil Data  Warehouse angebunden ist (Datenquelle und Datensenke) 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bezüglich zukünftiger Anforderungen für Marktsimulationen erweiterbar is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8153280" y="228600"/>
          <a:ext cx="716040" cy="568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153280" y="228600"/>
                    <a:ext cx="716040" cy="56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304920" y="533520"/>
            <a:ext cx="7619760" cy="0"/>
          </a:xfrm>
          <a:prstGeom prst="line">
            <a:avLst/>
          </a:prstGeom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213480" y="6375240"/>
            <a:ext cx="1983600" cy="483480"/>
            <a:chOff x="213480" y="6375240"/>
            <a:chExt cx="1983600" cy="483480"/>
          </a:xfrm>
        </p:grpSpPr>
        <p:sp>
          <p:nvSpPr>
            <p:cNvPr id="4" name=""/>
            <p:cNvSpPr/>
            <p:nvPr/>
          </p:nvSpPr>
          <p:spPr>
            <a:xfrm>
              <a:off x="213480" y="6375240"/>
              <a:ext cx="1922760" cy="48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1400" rIns="41400" tIns="22320" bIns="2232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63440"/>
                  <a:tab algn="l" pos="326880"/>
                  <a:tab algn="l" pos="490680"/>
                  <a:tab algn="l" pos="654120"/>
                  <a:tab algn="l" pos="817560"/>
                  <a:tab algn="l" pos="981000"/>
                  <a:tab algn="l" pos="1144440"/>
                  <a:tab algn="l" pos="1308240"/>
                  <a:tab algn="l" pos="1471680"/>
                  <a:tab algn="l" pos="1635120"/>
                  <a:tab algn="l" pos="1798560"/>
                  <a:tab algn="l" pos="1962000"/>
                  <a:tab algn="l" pos="2125800"/>
                  <a:tab algn="l" pos="2289240"/>
                  <a:tab algn="l" pos="2452680"/>
                  <a:tab algn="l" pos="2616120"/>
                  <a:tab algn="l" pos="2779560"/>
                  <a:tab algn="l" pos="2943360"/>
                  <a:tab algn="l" pos="3106800"/>
                  <a:tab algn="l" pos="3270240"/>
                </a:tabLst>
              </a:pPr>
              <a:r>
                <a:rPr b="0" lang="en-US" sz="3200" spc="-1" strike="noStrike">
                  <a:solidFill>
                    <a:srgbClr val="ff00ff"/>
                  </a:solidFill>
                  <a:latin typeface="Times New Roman"/>
                </a:rPr>
                <a:t>T  </a:t>
              </a:r>
              <a:r>
                <a:rPr b="0" lang="en-US" sz="3200" spc="-1" strike="noStrike">
                  <a:solidFill>
                    <a:srgbClr val="dadada"/>
                  </a:solidFill>
                  <a:latin typeface="DTMCenturyBook"/>
                </a:rPr>
                <a:t>  </a:t>
              </a:r>
              <a:r>
                <a:rPr b="0" lang="en-US" sz="3200" spc="-1" strike="noStrike">
                  <a:solidFill>
                    <a:srgbClr val="919191"/>
                  </a:solidFill>
                  <a:latin typeface="Times New Roman"/>
                </a:rPr>
                <a:t>Mobil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38120" y="6586560"/>
              <a:ext cx="47880" cy="4284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622440" y="6586560"/>
              <a:ext cx="50760" cy="4284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146320" y="6586560"/>
              <a:ext cx="50760" cy="4284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41560" y="6586560"/>
              <a:ext cx="47520" cy="4284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06400" y="6586560"/>
              <a:ext cx="47880" cy="4284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" name=""/>
          <p:cNvSpPr/>
          <p:nvPr/>
        </p:nvSpPr>
        <p:spPr>
          <a:xfrm>
            <a:off x="2438280" y="6496200"/>
            <a:ext cx="54104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Georg Verweyen   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Hyp_Excel.ppt (Version 29.09.02)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7704360" y="6375240"/>
            <a:ext cx="1442880" cy="483480"/>
            <a:chOff x="7704360" y="6375240"/>
            <a:chExt cx="1442880" cy="483480"/>
          </a:xfrm>
        </p:grpSpPr>
        <p:sp>
          <p:nvSpPr>
            <p:cNvPr id="12" name=""/>
            <p:cNvSpPr/>
            <p:nvPr/>
          </p:nvSpPr>
          <p:spPr>
            <a:xfrm>
              <a:off x="7704360" y="6375240"/>
              <a:ext cx="1442880" cy="48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1400" rIns="41400" tIns="22320" bIns="2232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63440"/>
                  <a:tab algn="l" pos="326880"/>
                  <a:tab algn="l" pos="490680"/>
                  <a:tab algn="l" pos="654120"/>
                  <a:tab algn="l" pos="817560"/>
                  <a:tab algn="l" pos="981000"/>
                  <a:tab algn="l" pos="1144440"/>
                  <a:tab algn="l" pos="1308240"/>
                  <a:tab algn="l" pos="1471680"/>
                  <a:tab algn="l" pos="1635120"/>
                  <a:tab algn="l" pos="1798560"/>
                  <a:tab algn="l" pos="1962000"/>
                  <a:tab algn="l" pos="2125800"/>
                  <a:tab algn="l" pos="2289240"/>
                  <a:tab algn="l" pos="2452680"/>
                  <a:tab algn="l" pos="2616120"/>
                  <a:tab algn="l" pos="2779560"/>
                  <a:tab algn="l" pos="2943360"/>
                  <a:tab algn="l" pos="3106800"/>
                  <a:tab algn="l" pos="3270240"/>
                </a:tabLst>
              </a:pPr>
              <a:r>
                <a:rPr b="0" lang="en-US" sz="3200" spc="-1" strike="noStrike">
                  <a:solidFill>
                    <a:srgbClr val="ff00ff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ff00ff"/>
                  </a:solidFill>
                  <a:latin typeface="Times New Roman"/>
                </a:rPr>
                <a:t>T</a:t>
              </a:r>
              <a:r>
                <a:rPr b="0" lang="en-US" sz="3200" spc="-1" strike="noStrike">
                  <a:solidFill>
                    <a:srgbClr val="dadada"/>
                  </a:solidFill>
                  <a:latin typeface="Times New Roman"/>
                </a:rPr>
                <a:t>     </a:t>
              </a:r>
              <a:r>
                <a:rPr b="0" lang="en-US" sz="3200" spc="-1" strike="noStrike">
                  <a:solidFill>
                    <a:srgbClr val="919191"/>
                  </a:solidFill>
                  <a:latin typeface="Times New Roman"/>
                </a:rPr>
                <a:t>D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282160" y="6589440"/>
              <a:ext cx="47520" cy="4320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466120" y="6589440"/>
              <a:ext cx="50760" cy="4320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5240" y="6589440"/>
              <a:ext cx="47520" cy="4320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7799400" y="6586560"/>
              <a:ext cx="47520" cy="4284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" name=""/>
          <p:cNvSpPr/>
          <p:nvPr/>
        </p:nvSpPr>
        <p:spPr>
          <a:xfrm>
            <a:off x="304920" y="228600"/>
            <a:ext cx="3962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DTMHelveticaRoman"/>
              </a:rPr>
              <a:t>Hyperion Anwendertreffen 2002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9051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Excel Makros für die Essbase Administ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org Verwey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-Mobile Deutschland Gmb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GLB_Ctx = </a:t>
            </a:r>
            <a:r>
              <a:rPr b="1" lang="de-DE" sz="1600" spc="-1" strike="noStrike">
                <a:solidFill>
                  <a:srgbClr val="cc3300"/>
                </a:solidFill>
                <a:latin typeface="Courier New"/>
              </a:rPr>
              <a:t>EssVGetHctxFromSheet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(Schnittstell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If GLB_Ctx = 0 Th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error_code = </a:t>
            </a:r>
            <a:r>
              <a:rPr b="1" lang="de-DE" sz="1600" spc="-1" strike="noStrike">
                <a:solidFill>
                  <a:srgbClr val="cc3300"/>
                </a:solidFill>
                <a:latin typeface="Courier New"/>
              </a:rPr>
              <a:t>EssVConnect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(Schnittstelle, "", "", "", "", ""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GLB_Ctx = </a:t>
            </a:r>
            <a:r>
              <a:rPr b="1" lang="de-DE" sz="1600" spc="-1" strike="noStrike">
                <a:solidFill>
                  <a:srgbClr val="cc3300"/>
                </a:solidFill>
                <a:latin typeface="Courier New"/>
              </a:rPr>
              <a:t>EssVGetHctxFromSheet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(Schnittstell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If GLB_Ctx = 0 Th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flg_work =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If error_code = 0 Then </a:t>
            </a:r>
            <a:r>
              <a:rPr b="1" lang="de-DE" sz="1600" spc="-1" strike="noStrike">
                <a:solidFill>
                  <a:srgbClr val="00cc99"/>
                </a:solidFill>
                <a:latin typeface="Courier New"/>
              </a:rPr>
              <a:t>' Falls kein Fehler gemeldet, obwoh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error_code = -1      </a:t>
            </a:r>
            <a:r>
              <a:rPr b="1" lang="de-DE" sz="1600" spc="-1" strike="noStrike">
                <a:solidFill>
                  <a:srgbClr val="00cc99"/>
                </a:solidFill>
                <a:latin typeface="Courier New"/>
              </a:rPr>
              <a:t>' keine Verbindung aufgebaut wur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End I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End I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End I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238880" cy="838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800" spc="-1" strike="noStrike">
                <a:solidFill>
                  <a:srgbClr val="000000"/>
                </a:solidFill>
                <a:latin typeface="Times New Roman"/>
              </a:rPr>
              <a:t>Step 2: Login abfrage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086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ogin-Bildschir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Login-Screen" descr=""/>
          <p:cNvPicPr/>
          <p:nvPr/>
        </p:nvPicPr>
        <p:blipFill>
          <a:blip r:embed="rId1"/>
          <a:stretch/>
        </p:blipFill>
        <p:spPr>
          <a:xfrm>
            <a:off x="457200" y="1371600"/>
            <a:ext cx="3625920" cy="4952880"/>
          </a:xfrm>
          <a:prstGeom prst="rect">
            <a:avLst/>
          </a:prstGeom>
          <a:ln w="0">
            <a:noFill/>
          </a:ln>
        </p:spPr>
      </p:pic>
      <p:pic>
        <p:nvPicPr>
          <p:cNvPr id="92" name="Login-Screen0" descr=""/>
          <p:cNvPicPr/>
          <p:nvPr/>
        </p:nvPicPr>
        <p:blipFill>
          <a:blip r:embed="rId2"/>
          <a:stretch/>
        </p:blipFill>
        <p:spPr>
          <a:xfrm>
            <a:off x="5105520" y="2590920"/>
            <a:ext cx="3225600" cy="168912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4583520" y="1528920"/>
            <a:ext cx="3916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74560" indent="-5745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Login-Screen des 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Application Mana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414680" y="4648320"/>
            <a:ext cx="472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4560" indent="-5745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.nur über C-Interface erreichbar</a:t>
            </a:r>
            <a:r>
              <a:rPr b="0" lang="en-US" sz="2400" spc="-1" strike="noStrike">
                <a:solidFill>
                  <a:srgbClr val="000000"/>
                </a:solidFill>
                <a:latin typeface="DTMHelveticaBold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609120" y="1981080"/>
            <a:ext cx="853452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cc99"/>
                </a:solidFill>
                <a:latin typeface="Courier New"/>
              </a:rPr>
              <a:t>' Möglichst schnell nach dem Login-Versuch den verwendeten User a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cc99"/>
                </a:solidFill>
                <a:latin typeface="Courier New"/>
              </a:rPr>
              <a:t>' der Ini-Datei lesen, damit dieser Eintrag nicht durch ein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cc99"/>
                </a:solidFill>
                <a:latin typeface="Courier New"/>
              </a:rPr>
              <a:t>' weiteren Login überschrieben wir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GLB_User = INILesen("LOGIN", "USER", "essbase.ini", "unbekannt"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238880" cy="838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800" spc="-1" strike="noStrike">
                <a:solidFill>
                  <a:srgbClr val="000000"/>
                </a:solidFill>
                <a:latin typeface="Times New Roman"/>
              </a:rPr>
              <a:t>Step 3: Username sicher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cc99"/>
                </a:solidFill>
                <a:latin typeface="Courier New"/>
              </a:rPr>
              <a:t>' Neue Excel-Mappe erzeug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Call Erzeuge_Neue_Mappe(1, "essinfo.xls [User-Gruppe-Liste]"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cc99"/>
                </a:solidFill>
                <a:latin typeface="Courier New"/>
              </a:rPr>
              <a:t>' Abfragen aller Benut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sts = </a:t>
            </a:r>
            <a:r>
              <a:rPr b="1" lang="de-DE" sz="1600" spc="-1" strike="noStrike">
                <a:solidFill>
                  <a:srgbClr val="cc3300"/>
                </a:solidFill>
                <a:latin typeface="Courier New"/>
              </a:rPr>
              <a:t>EsbListUsers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(GLB_Ctx, "", "", counter_Us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For counter = 1 To counter_Us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sts = </a:t>
            </a:r>
            <a:r>
              <a:rPr b="1" lang="de-DE" sz="1600" spc="-1" strike="noStrike">
                <a:solidFill>
                  <a:srgbClr val="cc3300"/>
                </a:solidFill>
                <a:latin typeface="Courier New"/>
              </a:rPr>
              <a:t>EsbGetNextItem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(GLB_Ctx, </a:t>
            </a:r>
            <a:r>
              <a:rPr b="1" lang="de-DE" sz="1600" spc="-1" strike="noStrike">
                <a:solidFill>
                  <a:srgbClr val="cc3300"/>
                </a:solidFill>
                <a:latin typeface="Courier New"/>
              </a:rPr>
              <a:t>ESB_USERINFO_TYPE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, UserInfo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600" spc="-1" strike="noStrike">
                <a:solidFill>
                  <a:srgbClr val="00cc99"/>
                </a:solidFill>
                <a:latin typeface="Courier New"/>
              </a:rPr>
              <a:t>' Verarbeitung der Inf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Next coun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cc99"/>
                </a:solidFill>
                <a:latin typeface="Courier New"/>
              </a:rPr>
              <a:t>' Liste der Gruppe auf ähnliche Wei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238880" cy="838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800" spc="-1" strike="noStrike">
                <a:solidFill>
                  <a:srgbClr val="000000"/>
                </a:solidFill>
                <a:latin typeface="Times New Roman"/>
              </a:rPr>
              <a:t>Step 4: Benutzer abfrage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marL="3049560" indent="0">
              <a:lnSpc>
                <a:spcPct val="100000"/>
              </a:lnSpc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For counter = 1 To counter_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49560" indent="0">
              <a:lnSpc>
                <a:spcPct val="100000"/>
              </a:lnSpc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Group_Name = Cells(1, counter + 3).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49560" indent="0">
              <a:lnSpc>
                <a:spcPct val="100000"/>
              </a:lnSpc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sts = </a:t>
            </a:r>
            <a:r>
              <a:rPr b="1" lang="de-DE" sz="1600" spc="-1" strike="noStrike">
                <a:solidFill>
                  <a:srgbClr val="cc3300"/>
                </a:solidFill>
                <a:latin typeface="Courier New"/>
              </a:rPr>
              <a:t>EsbGetGroupList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(GLB_Ctx, Group_Name, counter_Group_Detai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49560" indent="0">
              <a:lnSpc>
                <a:spcPct val="100000"/>
              </a:lnSpc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For counter2 = 1 To counter_Group_Detai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49560" indent="0">
              <a:lnSpc>
                <a:spcPct val="100000"/>
              </a:lnSpc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sts = </a:t>
            </a:r>
            <a:r>
              <a:rPr b="1" lang="de-DE" sz="1600" spc="-1" strike="noStrike">
                <a:solidFill>
                  <a:srgbClr val="cc3300"/>
                </a:solidFill>
                <a:latin typeface="Courier New"/>
              </a:rPr>
              <a:t>EsbGetNextItem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(GLB_Ctx, </a:t>
            </a:r>
            <a:r>
              <a:rPr b="1" lang="de-DE" sz="1600" spc="-1" strike="noStrike">
                <a:solidFill>
                  <a:srgbClr val="cc3300"/>
                </a:solidFill>
                <a:latin typeface="Courier New"/>
              </a:rPr>
              <a:t>ESB_GROUPNAME_TYPE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, ByVal Group_Nam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49560" indent="0">
              <a:lnSpc>
                <a:spcPct val="100000"/>
              </a:lnSpc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User_Name = Essbase_Trim(Group_Name) </a:t>
            </a:r>
            <a:r>
              <a:rPr b="1" lang="de-DE" sz="1600" spc="-1" strike="noStrike">
                <a:solidFill>
                  <a:srgbClr val="00cc99"/>
                </a:solidFill>
                <a:latin typeface="Courier New"/>
              </a:rPr>
              <a:t>' Blanks entfernen 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49560" indent="0">
              <a:lnSpc>
                <a:spcPct val="100000"/>
              </a:lnSpc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600" spc="-1" strike="noStrike">
                <a:solidFill>
                  <a:srgbClr val="00cc99"/>
                </a:solidFill>
                <a:latin typeface="Courier New"/>
              </a:rPr>
              <a:t>'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de-DE" sz="1600" spc="-1" strike="noStrike">
                <a:solidFill>
                  <a:srgbClr val="00cc99"/>
                </a:solidFill>
                <a:latin typeface="Courier New"/>
              </a:rPr>
              <a:t>Weitere Verarbeitungsschrit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49560" indent="0">
              <a:lnSpc>
                <a:spcPct val="100000"/>
              </a:lnSpc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Next counter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49560" indent="0">
              <a:lnSpc>
                <a:spcPct val="100000"/>
              </a:lnSpc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Next coun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238880" cy="838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800" spc="-1" strike="noStrike">
                <a:solidFill>
                  <a:srgbClr val="000000"/>
                </a:solidFill>
                <a:latin typeface="Times New Roman"/>
              </a:rPr>
              <a:t>Step 5: Matrix erzeuge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EssInfo: Notizen der Datenbank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238880" cy="838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eispiel für ein Makr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Info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6476760" cy="39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685800" y="4952880"/>
            <a:ext cx="7620120" cy="304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019920" y="3809880"/>
            <a:ext cx="1600200" cy="228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48320" y="2895480"/>
            <a:ext cx="1371600" cy="304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62120" y="1981080"/>
            <a:ext cx="3200400" cy="304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[Wed Jul 24 22:03:22 2002]Local/ESSBASE0///Info(105105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Hyperion Essbase OLAP Server - star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[Wed Jul 24 22:05:31 2002]Local/ESSBASE0///Info(105100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Received login requ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[Wed Jul 24 22:05:31 2002]Local/ESSBASE0///Info(1051034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Logging in user Essbaseadm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[Wed Jul 24 22:05:31 2002]Local/ESSBASE0///Info(105100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Received client request: Get Client Settings (from user Ada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685440" y="60948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terpretation der Logfile</a:t>
            </a:r>
            <a:r>
              <a:rPr b="0" lang="en-US" sz="4800" spc="-1" strike="noStrike">
                <a:solidFill>
                  <a:srgbClr val="000000"/>
                </a:solidFill>
                <a:latin typeface="DTMCenturyBook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219400" y="1555920"/>
            <a:ext cx="104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DTMCenturyBook"/>
              </a:rPr>
              <a:t>Uhrze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446360" y="2482920"/>
            <a:ext cx="359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cc99"/>
                </a:solidFill>
                <a:latin typeface="DTMCenturyBook"/>
              </a:rPr>
              <a:t>Applikation/Datenbank/Us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0960" y="3352680"/>
            <a:ext cx="261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DTMCenturyBook"/>
              </a:rPr>
              <a:t>Typ (Fehlernumm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888520" y="533412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DTMCenturyBook"/>
              </a:rPr>
              <a:t>Meldungst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2388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Makro zur Interpretation (1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ex_logf" descr=""/>
          <p:cNvPicPr/>
          <p:nvPr/>
        </p:nvPicPr>
        <p:blipFill>
          <a:blip r:embed="rId1"/>
          <a:stretch/>
        </p:blipFill>
        <p:spPr>
          <a:xfrm>
            <a:off x="990720" y="2133720"/>
            <a:ext cx="7315200" cy="36828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1061280" y="1530360"/>
            <a:ext cx="562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EssLog: Assistent Schritt 1 von 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2388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Makro zur Interpretation (2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061280" y="1530360"/>
            <a:ext cx="562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EssLog: Assistent Schritt 2 von 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ex_logf2" descr=""/>
          <p:cNvPicPr/>
          <p:nvPr/>
        </p:nvPicPr>
        <p:blipFill>
          <a:blip r:embed="rId1"/>
          <a:stretch/>
        </p:blipFill>
        <p:spPr>
          <a:xfrm>
            <a:off x="990720" y="2133720"/>
            <a:ext cx="7391160" cy="372096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143000" y="4419720"/>
            <a:ext cx="2590920" cy="45720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708720" y="42228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DTMCenturyBook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2388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Makro zur Interpretation (3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061280" y="1530360"/>
            <a:ext cx="562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EssLog: Assistent Schritt 3 von 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ex_logf3" descr=""/>
          <p:cNvPicPr/>
          <p:nvPr/>
        </p:nvPicPr>
        <p:blipFill>
          <a:blip r:embed="rId1"/>
          <a:stretch/>
        </p:blipFill>
        <p:spPr>
          <a:xfrm>
            <a:off x="990720" y="2133720"/>
            <a:ext cx="7315200" cy="36828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1371600" y="4419720"/>
            <a:ext cx="304920" cy="759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143000" y="4343400"/>
            <a:ext cx="3200400" cy="68580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105440" y="419112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DTMCenturyBook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266720" y="1676160"/>
            <a:ext cx="4343400" cy="4305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84120" indent="-382680">
              <a:spcBef>
                <a:spcPts val="451"/>
              </a:spcBef>
              <a:spcAft>
                <a:spcPts val="1125"/>
              </a:spcAft>
              <a:buClr>
                <a:srgbClr val="ff0066"/>
              </a:buClr>
              <a:buFont typeface="Webdings" charset="2"/>
              <a:buChar char="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Gegründet am 1. Juli 19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382680">
              <a:spcBef>
                <a:spcPts val="451"/>
              </a:spcBef>
              <a:spcAft>
                <a:spcPts val="1125"/>
              </a:spcAft>
              <a:buClr>
                <a:srgbClr val="ff0066"/>
              </a:buClr>
              <a:buFont typeface="Webdings" charset="2"/>
              <a:buChar char="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100-prozentige Tochter der T-Mobile International A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382680">
              <a:spcBef>
                <a:spcPts val="451"/>
              </a:spcBef>
              <a:spcAft>
                <a:spcPts val="1125"/>
              </a:spcAft>
              <a:buClr>
                <a:srgbClr val="ff0066"/>
              </a:buClr>
              <a:buFont typeface="Webdings" charset="2"/>
              <a:buChar char="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Deutlich mehr als 9.000 Mitarbeiter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(Stand: 31. März 200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382680">
              <a:spcBef>
                <a:spcPts val="451"/>
              </a:spcBef>
              <a:spcAft>
                <a:spcPts val="1125"/>
              </a:spcAft>
              <a:buClr>
                <a:srgbClr val="ff0066"/>
              </a:buClr>
              <a:buFont typeface="Webdings" charset="2"/>
              <a:buChar char="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Über 23 Millionen Kunden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(Stand: 31. März 200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382680">
              <a:spcBef>
                <a:spcPts val="451"/>
              </a:spcBef>
              <a:spcAft>
                <a:spcPts val="1125"/>
              </a:spcAft>
              <a:buClr>
                <a:srgbClr val="ff0066"/>
              </a:buClr>
              <a:buFont typeface="Webdings" charset="2"/>
              <a:buChar char="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Marktführer in Deutschl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382680">
              <a:spcBef>
                <a:spcPts val="451"/>
              </a:spcBef>
              <a:spcAft>
                <a:spcPts val="1125"/>
              </a:spcAft>
              <a:buClr>
                <a:srgbClr val="ff0066"/>
              </a:buClr>
              <a:buFont typeface="Webdings" charset="2"/>
              <a:buChar char="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Rund 7,1 Milliarden Euro Umsatz in 20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8440560" y="6324480"/>
            <a:ext cx="633600" cy="5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ts val="36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ele-GroteskHal"/>
              </a:rPr>
              <a:t>I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rcRect l="2557" t="0" r="0" b="0"/>
          <a:stretch/>
        </p:blipFill>
        <p:spPr>
          <a:xfrm>
            <a:off x="380880" y="1752480"/>
            <a:ext cx="3429000" cy="30895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762120" y="609480"/>
            <a:ext cx="761976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-Mobile Deutschland GmbH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2388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Makro zur Interpretation (4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061280" y="1530360"/>
            <a:ext cx="562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EssLog: Assistent Schritt 4 von 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ex_logf4" descr=""/>
          <p:cNvPicPr/>
          <p:nvPr/>
        </p:nvPicPr>
        <p:blipFill>
          <a:blip r:embed="rId1"/>
          <a:stretch/>
        </p:blipFill>
        <p:spPr>
          <a:xfrm>
            <a:off x="990720" y="2133720"/>
            <a:ext cx="7772400" cy="39132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990720" y="3505320"/>
            <a:ext cx="2590560" cy="45720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724280" y="4038480"/>
            <a:ext cx="2590920" cy="91440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648240" y="34290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DTMCenturyBook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077240" y="38098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DTMCenturyBook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2388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wendungsbeispiel (1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Meldungen in einer Zeile aufgelist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Benutzer anonymisiert (auch in Meldunge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user" descr=""/>
          <p:cNvPicPr/>
          <p:nvPr/>
        </p:nvPicPr>
        <p:blipFill>
          <a:blip r:embed="rId1"/>
          <a:stretch/>
        </p:blipFill>
        <p:spPr>
          <a:xfrm>
            <a:off x="228600" y="2971800"/>
            <a:ext cx="8686800" cy="28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685800" y="609480"/>
            <a:ext cx="71629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wendungsbeispiel (2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selcttime" descr=""/>
          <p:cNvPicPr/>
          <p:nvPr/>
        </p:nvPicPr>
        <p:blipFill>
          <a:blip r:embed="rId1"/>
          <a:stretch/>
        </p:blipFill>
        <p:spPr>
          <a:xfrm>
            <a:off x="609480" y="1447920"/>
            <a:ext cx="4038840" cy="202716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876920" y="1523520"/>
            <a:ext cx="40384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Selektionszeiten separat aufgeliste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es_perfo" descr=""/>
          <p:cNvPicPr/>
          <p:nvPr/>
        </p:nvPicPr>
        <p:blipFill>
          <a:blip r:embed="rId2"/>
          <a:stretch/>
        </p:blipFill>
        <p:spPr>
          <a:xfrm>
            <a:off x="3733920" y="2971800"/>
            <a:ext cx="4962240" cy="30751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609480" y="3809880"/>
            <a:ext cx="304812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hängig vom Datenbank-Einstellungen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es_buff" descr=""/>
          <p:cNvPicPr/>
          <p:nvPr/>
        </p:nvPicPr>
        <p:blipFill>
          <a:blip r:embed="rId1"/>
          <a:stretch/>
        </p:blipFill>
        <p:spPr>
          <a:xfrm>
            <a:off x="1219320" y="1905120"/>
            <a:ext cx="6019560" cy="4403520"/>
          </a:xfrm>
          <a:prstGeom prst="rect">
            <a:avLst/>
          </a:prstGeom>
          <a:ln w="0">
            <a:noFill/>
          </a:ln>
        </p:spPr>
      </p:pic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2388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wendungsbeispiel (2a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1752480"/>
            <a:ext cx="1600200" cy="53352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00200" y="5029200"/>
            <a:ext cx="3505320" cy="99072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7086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Änderungsmöglichke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685800" y="609480"/>
            <a:ext cx="71629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wendungsbeispiel (3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week" descr=""/>
          <p:cNvPicPr/>
          <p:nvPr/>
        </p:nvPicPr>
        <p:blipFill>
          <a:blip r:embed="rId1"/>
          <a:stretch/>
        </p:blipFill>
        <p:spPr>
          <a:xfrm>
            <a:off x="762120" y="2133720"/>
            <a:ext cx="7848360" cy="343368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837720" y="1371240"/>
            <a:ext cx="7086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ehler der letzten Woche 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685800" y="609480"/>
            <a:ext cx="71629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wendungsbeispiel (4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762120" y="1295280"/>
            <a:ext cx="76960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Maximal gleichzeitig eingebuchte Benutzer 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ex_logbig" descr=""/>
          <p:cNvPicPr/>
          <p:nvPr/>
        </p:nvPicPr>
        <p:blipFill>
          <a:blip r:embed="rId1"/>
          <a:stretch/>
        </p:blipFill>
        <p:spPr>
          <a:xfrm>
            <a:off x="2666880" y="2362320"/>
            <a:ext cx="6051600" cy="4029120"/>
          </a:xfrm>
          <a:prstGeom prst="rect">
            <a:avLst/>
          </a:prstGeom>
          <a:ln w="0">
            <a:noFill/>
          </a:ln>
        </p:spPr>
      </p:pic>
      <p:pic>
        <p:nvPicPr>
          <p:cNvPr id="154" name="user2" descr=""/>
          <p:cNvPicPr/>
          <p:nvPr/>
        </p:nvPicPr>
        <p:blipFill>
          <a:blip r:embed="rId2"/>
          <a:stretch/>
        </p:blipFill>
        <p:spPr>
          <a:xfrm>
            <a:off x="304920" y="1828800"/>
            <a:ext cx="8394480" cy="164448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304920" y="3581280"/>
            <a:ext cx="4114800" cy="205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rweiterungen aufgrund von Diskussionen mit Anwendern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homepage" descr=""/>
          <p:cNvPicPr/>
          <p:nvPr/>
        </p:nvPicPr>
        <p:blipFill>
          <a:blip r:embed="rId1"/>
          <a:stretch/>
        </p:blipFill>
        <p:spPr>
          <a:xfrm>
            <a:off x="1143000" y="3048120"/>
            <a:ext cx="5791320" cy="335268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685800" y="609480"/>
            <a:ext cx="71629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Verfügbarkeit der Makro‘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761760" y="1294920"/>
            <a:ext cx="70866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home.t-online.de/home/georg.verwey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besprochene Makro‘s frei verwendb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aber auch weitere Informationen 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838080" y="609480"/>
            <a:ext cx="6248520" cy="1524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ührend in der Mobilkommunikat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380880" y="2173320"/>
            <a:ext cx="6019920" cy="320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lvl="1" marL="364680" indent="-363240">
              <a:spcBef>
                <a:spcPts val="451"/>
              </a:spcBef>
              <a:spcAft>
                <a:spcPts val="1125"/>
              </a:spcAft>
              <a:buClr>
                <a:srgbClr val="ff0066"/>
              </a:buClr>
              <a:buFont typeface="Webdings" charset="2"/>
              <a:buChar char="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Betreiber des T-Mobile GSM-Netzes in Deutschland (digitaler Standard, 900 und 1800 MHz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64680" indent="-363240">
              <a:spcBef>
                <a:spcPts val="451"/>
              </a:spcBef>
              <a:spcAft>
                <a:spcPts val="1125"/>
              </a:spcAft>
              <a:buClr>
                <a:srgbClr val="ff0066"/>
              </a:buClr>
              <a:buFont typeface="Webdings" charset="2"/>
              <a:buChar char="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Nahezu flächendeckende Versorgung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(98 % der Bevölkerung und Fläch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64680" indent="-363240">
              <a:spcBef>
                <a:spcPts val="451"/>
              </a:spcBef>
              <a:spcAft>
                <a:spcPts val="1125"/>
              </a:spcAft>
              <a:buClr>
                <a:srgbClr val="ff0066"/>
              </a:buClr>
              <a:buFont typeface="Webdings" charset="2"/>
              <a:buChar char="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Lizenz für den Aufbau eines UMTS-Netz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64680" indent="-363240">
              <a:spcBef>
                <a:spcPts val="451"/>
              </a:spcBef>
              <a:spcAft>
                <a:spcPts val="1125"/>
              </a:spcAft>
              <a:buClr>
                <a:srgbClr val="ff0066"/>
              </a:buClr>
              <a:buFont typeface="Webdings" charset="2"/>
              <a:buChar char="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Innovationsführer bei der Entwicklung neuer Dienste und Produkte, beispielsweise Mobile Multimedia-Angebote wie WAP, Java-Download, GPRS und UM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64680" indent="-363240">
              <a:spcBef>
                <a:spcPts val="451"/>
              </a:spcBef>
              <a:spcAft>
                <a:spcPts val="1125"/>
              </a:spcAft>
              <a:buClr>
                <a:srgbClr val="ff0066"/>
              </a:buClr>
              <a:buFont typeface="Webdings" charset="2"/>
              <a:buChar char="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T-Mobile Kunden sind in mehr als 115 Ländern erreichb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914400" y="5638680"/>
            <a:ext cx="4903920" cy="609840"/>
          </a:xfrm>
          <a:prstGeom prst="rect">
            <a:avLst/>
          </a:pr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0" tIns="36000" bIns="0" anchor="t">
            <a:normAutofit fontScale="94000"/>
          </a:bodyPr>
          <a:p>
            <a:pPr lvl="1" marL="698400" indent="-2685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ele-GroteskFet"/>
              </a:rPr>
              <a:t>Führender Mobilfunkanbieter 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ele-GroteskFet"/>
              </a:rPr>
              <a:t>Deutschland und in Europa Nummer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ele-GroteskFe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8440560" y="6324480"/>
            <a:ext cx="633600" cy="5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ts val="36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ele-GroteskHal"/>
              </a:rPr>
              <a:t>I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27760" y="2235240"/>
            <a:ext cx="201132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70866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Ziele des Projektes MP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9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0066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Das Ziel des Projektes i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Die Bereitstellung eines Werkzeuges, das die zentralen Prozesse der Marketingplanung unterstütz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0066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Wichtige Randbedingungen si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Modularer Aufbau (Pflegbarkeit und Weiterentwicklu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nbindung an die DW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Änderbarkeit der Da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Änderbarkeit der Modelle (Tarife, Ziele .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Planungsaufgaben auf verschiedene Benutzer aufteilb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Makros zur Essbase-Admin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entwickelt von Vortragend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tragen ein Menüeintrag in Excel e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Menü0" descr=""/>
          <p:cNvPicPr/>
          <p:nvPr/>
        </p:nvPicPr>
        <p:blipFill>
          <a:blip r:embed="rId1"/>
          <a:stretch/>
        </p:blipFill>
        <p:spPr>
          <a:xfrm>
            <a:off x="1219320" y="3230640"/>
            <a:ext cx="6019560" cy="24080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238880" cy="838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halt des Vortrag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EssInfo: Übersicht über erteilte Zugriffsrech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Menü" descr=""/>
          <p:cNvPicPr/>
          <p:nvPr/>
        </p:nvPicPr>
        <p:blipFill>
          <a:blip r:embed="rId1"/>
          <a:stretch/>
        </p:blipFill>
        <p:spPr>
          <a:xfrm>
            <a:off x="838080" y="2286000"/>
            <a:ext cx="7239240" cy="29052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238880" cy="838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DTMCenturyBook"/>
              </a:rPr>
              <a:t>Beispiel für ein Makr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matrix" descr=""/>
          <p:cNvPicPr/>
          <p:nvPr/>
        </p:nvPicPr>
        <p:blipFill>
          <a:blip r:embed="rId1"/>
          <a:stretch/>
        </p:blipFill>
        <p:spPr>
          <a:xfrm>
            <a:off x="2057400" y="685800"/>
            <a:ext cx="5638680" cy="546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238880" cy="838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800" spc="-1" strike="noStrike">
                <a:solidFill>
                  <a:srgbClr val="000000"/>
                </a:solidFill>
                <a:latin typeface="Times New Roman"/>
              </a:rPr>
              <a:t>Benötigte Essbase Fil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4343400"/>
            <a:ext cx="7620120" cy="1752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\essbase\bin\essxlvba.tx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\essbase\api\include\esb32.b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\essbase\api\include\esberror.b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vba" descr=""/>
          <p:cNvPicPr/>
          <p:nvPr/>
        </p:nvPicPr>
        <p:blipFill>
          <a:blip r:embed="rId1"/>
          <a:stretch/>
        </p:blipFill>
        <p:spPr>
          <a:xfrm>
            <a:off x="838080" y="1600200"/>
            <a:ext cx="7239240" cy="21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cc99"/>
                </a:solidFill>
                <a:latin typeface="Courier New"/>
              </a:rPr>
              <a:t>' Addin geladen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On Error Resume Next    </a:t>
            </a:r>
            <a:r>
              <a:rPr b="1" lang="de-DE" sz="1600" spc="-1" strike="noStrike">
                <a:solidFill>
                  <a:srgbClr val="00cc99"/>
                </a:solidFill>
                <a:latin typeface="Courier New"/>
              </a:rPr>
              <a:t>' Fehlerbehandlung deaktivier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AddIns("Hyperion Essbase OLAP Server DLL").Installed = Tr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letzterFehler = Er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On Error GoTo 0         </a:t>
            </a:r>
            <a:r>
              <a:rPr b="1" lang="de-DE" sz="1600" spc="-1" strike="noStrike">
                <a:solidFill>
                  <a:srgbClr val="00cc99"/>
                </a:solidFill>
                <a:latin typeface="Courier New"/>
              </a:rPr>
              <a:t>' Fehlerbehandlung wieder aktivier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If letzterFehler &lt;&gt; 0 Th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Essbase_Login = -2    </a:t>
            </a:r>
            <a:r>
              <a:rPr b="1" lang="de-DE" sz="1600" spc="-1" strike="noStrike">
                <a:solidFill>
                  <a:srgbClr val="00cc99"/>
                </a:solidFill>
                <a:latin typeface="Courier New"/>
              </a:rPr>
              <a:t>' Direkter Ausspr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Exit Fun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End I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238880" cy="838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800" spc="-1" strike="noStrike">
                <a:solidFill>
                  <a:srgbClr val="000000"/>
                </a:solidFill>
                <a:latin typeface="Times New Roman"/>
              </a:rPr>
              <a:t>Step 1: Add-In geladen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4T05:49:37Z</dcterms:created>
  <dc:creator>Georg Verweyen</dc:creator>
  <dc:description/>
  <dc:language>en-US</dc:language>
  <cp:lastModifiedBy>Georg Verweyen</cp:lastModifiedBy>
  <cp:lastPrinted>2002-09-02T12:09:09Z</cp:lastPrinted>
  <dcterms:modified xsi:type="dcterms:W3CDTF">2002-09-29T09:35:30Z</dcterms:modified>
  <cp:revision>11</cp:revision>
  <dc:subject/>
  <dc:title>Benötigte Essbase Files</dc:title>
</cp:coreProperties>
</file>